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3C7-275A-4F94-8D22-8EEFE783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AB4-4FDC-44E5-80D1-CF1FB045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A9D-2371-4E61-BCC5-40DBD7A0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4E3-7FC1-4F29-861F-6AAFE082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AA23-DDC4-41FE-A230-966C133A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C24A-A591-4A21-AA60-A46AEE0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E412-66FF-40B4-B9D0-809D510D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E32A-C2A4-485E-A49E-52F693B5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6355-8845-4126-820B-FA285DB5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C83C-C5AE-4F2A-94BB-A4274070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B3F6-1B16-4EAC-B1CC-29EA3983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15B-26AA-435F-AC8F-1F2979F5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C580-9762-4C01-9EE5-BF5E77C3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619E-5B64-4D5F-965E-273D47E6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A0D5-4046-459A-A488-B933B3B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7C21-4E0B-4D58-809D-32C307BC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6B3B-D5DA-49C7-BE0F-69424084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F0A-22C6-448F-B594-5839828F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71C-2916-4048-8568-E0128A62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390-5E82-4C56-87D6-5817A6AC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00C-AEAB-47D8-A8EB-EB86E971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89F-AECC-42B2-93A3-4F8974DF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2E5-6226-4566-9795-5AFE76E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A87-1E88-4F8B-9F24-80EA085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A719-B6E6-48C9-BE1C-392A4B20B4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E801-E35E-414C-A55A-B018CE3B7F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misije.ppt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2359080"/>
            <a:ext cx="5791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6699ff"/>
                </a:solidFill>
                <a:latin typeface="Arial"/>
              </a:rPr>
              <a:t>Poštovani,</a:t>
            </a:r>
            <a:br>
              <a:rPr sz="1400"/>
            </a:br>
            <a:r>
              <a:rPr b="1" lang="sl-SI" sz="1400" spc="-1" strike="noStrike">
                <a:solidFill>
                  <a:srgbClr val="6699ff"/>
                </a:solidFill>
                <a:latin typeface="Arial"/>
              </a:rPr>
              <a:t>Vekovima čovek udare temelje misleći da će ga zadnji koji sagradi nadživeti, da će mu sačuvati ime i učiniti ga trajnim, većim. Mnogo toga utemeljenog i sazidanog se srusilo. Rušili su rušitelji, rušilo je vreme, a rušila je i bezvrednost.</a:t>
            </a:r>
            <a:br>
              <a:rPr sz="1400"/>
            </a:br>
            <a:br>
              <a:rPr sz="1400"/>
            </a:br>
            <a:r>
              <a:rPr b="1" lang="sl-SI" sz="1400" spc="-1" strike="noStrike">
                <a:solidFill>
                  <a:srgbClr val="6699ff"/>
                </a:solidFill>
                <a:latin typeface="Arial"/>
              </a:rPr>
              <a:t>I ovaj fakultet osnovan je sa ciljem da opstane. Zamišljen je kao izvorište znanja za bavljenje trgovinom, bankarstvom i reviziom. Programi po kojima se na njemu uči sačinjeni su po ugledu na programe silčnih velikih svetskih fakulteta koji su istinskim vrednostima odolevali vremenu i tako sebi obezbedili ugled i poštovanje.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</a:t>
            </a:r>
            <a:r>
              <a:rPr b="1" lang="sl-SI" sz="2000" spc="-1" strike="noStrike">
                <a:solidFill>
                  <a:srgbClr val="000066"/>
                </a:solidFill>
                <a:latin typeface="Verdana"/>
              </a:rPr>
              <a:t>sadfu po</a:t>
            </a:r>
            <a:r>
              <a:rPr b="0" lang="sl-SI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676520"/>
          <a:ext cx="1752120" cy="5333760"/>
        </p:xfrm>
        <a:graphic>
          <a:graphicData uri="http://schemas.openxmlformats.org/drawingml/2006/table">
            <a:tbl>
              <a:tblPr/>
              <a:tblGrid>
                <a:gridCol w="1752120"/>
              </a:tblGrid>
              <a:tr h="53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52480" y="0"/>
          <a:ext cx="7391520" cy="1676520"/>
        </p:xfrm>
        <a:graphic>
          <a:graphicData uri="http://schemas.openxmlformats.org/drawingml/2006/table">
            <a:tbl>
              <a:tblPr/>
              <a:tblGrid>
                <a:gridCol w="739152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FAKULTET ZA TRGOVINU I BANKARSTVO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“Jani</a:t>
                      </a:r>
                      <a:r>
                        <a:rPr b="1" lang="sl-SI" sz="2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ćije i Danica Karić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1905120"/>
          <a:ext cx="1600200" cy="3348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66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 Fakulte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663a0"/>
                        </a:gs>
                        <a:gs pos="100000">
                          <a:srgbClr val="00006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0" y="2438280"/>
          <a:ext cx="1600200" cy="33516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66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Cilj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663a0"/>
                        </a:gs>
                        <a:gs pos="100000">
                          <a:srgbClr val="00006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0" y="2971800"/>
          <a:ext cx="1600200" cy="3348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66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Istorij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0" y="3505320"/>
          <a:ext cx="1600200" cy="36504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66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isija</a:t>
                      </a:r>
                      <a:r>
                        <a:rPr b="0" lang="sl-SI" sz="1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2663a0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475520" y="17524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66ccff"/>
                </a:solidFill>
                <a:latin typeface="Arial Black"/>
              </a:rPr>
              <a:t>O Fakulte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0"/>
          <a:ext cx="1752480" cy="16765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6699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149" name="bk" descr=""/>
          <p:cNvPicPr/>
          <p:nvPr/>
        </p:nvPicPr>
        <p:blipFill>
          <a:blip r:embed="rId5"/>
          <a:stretch/>
        </p:blipFill>
        <p:spPr>
          <a:xfrm>
            <a:off x="0" y="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5120" y="21337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sl-SI" sz="2200" spc="-1" strike="noStrike">
                <a:solidFill>
                  <a:srgbClr val="66ccff"/>
                </a:solidFill>
                <a:latin typeface="Arial"/>
              </a:rPr>
              <a:t>ISTORIJ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1" lang="sl-SI" sz="1300" spc="-1" strike="noStrike">
                <a:solidFill>
                  <a:srgbClr val="66ccff"/>
                </a:solidFill>
                <a:latin typeface="Arial"/>
              </a:rPr>
              <a:t>FAKULTET ZA TRGOVINU I BANKARSTVO </a:t>
            </a:r>
            <a:r>
              <a:rPr b="1" lang="en-US" sz="1300" spc="-1" strike="noStrike">
                <a:solidFill>
                  <a:srgbClr val="66ccff"/>
                </a:solidFill>
                <a:latin typeface="Arial"/>
              </a:rPr>
              <a:t>“Jani</a:t>
            </a:r>
            <a:r>
              <a:rPr b="1" lang="sl-SI" sz="1300" spc="-1" strike="noStrike">
                <a:solidFill>
                  <a:srgbClr val="66ccff"/>
                </a:solidFill>
                <a:latin typeface="Arial"/>
              </a:rPr>
              <a:t>ćije i Danica Karić</a:t>
            </a:r>
            <a:r>
              <a:rPr b="1" lang="en-US" sz="1300" spc="-1" strike="noStrike">
                <a:solidFill>
                  <a:srgbClr val="66ccff"/>
                </a:solidFill>
                <a:latin typeface="Arial"/>
              </a:rPr>
              <a:t>”</a:t>
            </a:r>
            <a:r>
              <a:rPr b="1" lang="sl-SI" sz="1300" spc="-1" strike="noStrike">
                <a:solidFill>
                  <a:srgbClr val="66ccff"/>
                </a:solidFill>
                <a:latin typeface="Arial"/>
              </a:rPr>
              <a:t> , Beograd je fakultet koji pod ovim nazivo, na ovim prostorima egzistira id 14.09.1998. Go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3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1" lang="sl-SI" sz="1300" spc="-1" strike="noStrike">
                <a:solidFill>
                  <a:srgbClr val="66ccff"/>
                </a:solidFill>
                <a:latin typeface="Arial"/>
              </a:rPr>
              <a:t>Godine koje su pred nama obeleziće četvrtu etapu razvoja fakulteta. Biče to period u kome će do izražaja doći sve vrednosti i znanja koja su na mukotrpan način stvarana i skupljana proteklih godina. Novi poduhati brižljivo planirani dodaće novu vrednost Fakultetu i doneti, nadamo se, pozitivan stav domaćeg okruženja prema ideji privatnog visokoškolskog obrazovanja i što je najvažnije konkurentsku prednost i liderstvo u oblastimaza koje je Fakulet matičan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bk" descr=""/>
          <p:cNvPicPr/>
          <p:nvPr/>
        </p:nvPicPr>
        <p:blipFill>
          <a:blip r:embed="rId1"/>
          <a:stretch/>
        </p:blipFill>
        <p:spPr>
          <a:xfrm>
            <a:off x="0" y="0"/>
            <a:ext cx="1623960" cy="1676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057400" y="457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3300"/>
                </a:solidFill>
                <a:latin typeface="Arial Black"/>
              </a:rPr>
              <a:t>FAKULTET ZA TRGOVINU I BANKARSTVO </a:t>
            </a: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“Jani</a:t>
            </a:r>
            <a:r>
              <a:rPr b="1" lang="sl-SI" sz="2000" spc="-1" strike="noStrike">
                <a:solidFill>
                  <a:srgbClr val="ff3300"/>
                </a:solidFill>
                <a:latin typeface="Arial Black"/>
              </a:rPr>
              <a:t>ćije i Danica Karić</a:t>
            </a: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3300"/>
                </a:solidFill>
                <a:latin typeface="Arial Black"/>
              </a:rPr>
              <a:t>FAKULTET ZA TRGOVINU I BANKARSTVO </a:t>
            </a:r>
            <a:r>
              <a:rPr b="1" lang="en-US" sz="2200" spc="-1" strike="noStrike">
                <a:solidFill>
                  <a:srgbClr val="ff3300"/>
                </a:solidFill>
                <a:latin typeface="Arial Black"/>
              </a:rPr>
              <a:t>“Jani</a:t>
            </a:r>
            <a:r>
              <a:rPr b="1" lang="sl-SI" sz="2200" spc="-1" strike="noStrike">
                <a:solidFill>
                  <a:srgbClr val="ff3300"/>
                </a:solidFill>
                <a:latin typeface="Arial Black"/>
              </a:rPr>
              <a:t>ćije i Danica Karić</a:t>
            </a:r>
            <a:r>
              <a:rPr b="1" lang="en-US" sz="2200" spc="-1" strike="noStrike">
                <a:solidFill>
                  <a:srgbClr val="ff3300"/>
                </a:solidFill>
                <a:latin typeface="Arial Black"/>
              </a:rPr>
              <a:t>”</a:t>
            </a:r>
            <a:br>
              <a:rPr sz="2200"/>
            </a:b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Nsjperspektivn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Najsavremen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k" descr=""/>
          <p:cNvPicPr/>
          <p:nvPr/>
        </p:nvPicPr>
        <p:blipFill>
          <a:blip r:embed="rId3"/>
          <a:stretch/>
        </p:blipFill>
        <p:spPr>
          <a:xfrm>
            <a:off x="0" y="0"/>
            <a:ext cx="1623960" cy="1676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038480" y="1797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Naša vizija s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285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Najatraktivn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62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047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Najkvalitetn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372600" cy="7238880"/>
          </a:xfrm>
          <a:prstGeom prst="rect">
            <a:avLst/>
          </a:prstGeom>
          <a:solidFill>
            <a:srgbClr val="0000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198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Trebuchet MS"/>
              </a:rPr>
              <a:t>HVAL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5:06:48Z</dcterms:created>
  <dc:creator>Boban</dc:creator>
  <dc:description/>
  <dc:language>en-US</dc:language>
  <cp:lastModifiedBy>Boban</cp:lastModifiedBy>
  <dcterms:modified xsi:type="dcterms:W3CDTF">2003-11-15T18:46:55Z</dcterms:modified>
  <cp:revision>59</cp:revision>
  <dc:subject/>
  <dc:title>FAKULTET ZA TRGOVINU I BANKARSTVO “Janićije i Danica Karić”</dc:title>
</cp:coreProperties>
</file>